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21.jpeg" ContentType="image/jpeg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529D-B5C6-4FA3-96E9-BD5893D93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9463-7838-463F-81CF-E7AA38168F3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C3695-201F-4AD0-8BCB-25D6E603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4CFAFE-92BC-47DE-8324-61284485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B2BF0A-F456-4BF1-81DB-72283FE9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1D1B0-502E-4B63-A313-FDAE4450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05F6D-D48D-404F-9F76-B4AF61DC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812AA-22F4-438E-A22B-A443ADCC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1AA17-9A6A-42EA-95EE-3D1643A8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DD618-F1E9-4304-BAB0-705055B2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D89347-1125-4B8A-8697-875A18F0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6844E-40F0-474F-AEF1-5DB9FFA8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665C-66EA-4341-BCD0-EDA96749089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43FC4C-47B8-4101-ADD3-61B9C665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7732F-F59C-4BBE-9F56-4B30EF51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FBF17F-D1D9-4DFD-8E00-9E3B8EC0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642A47-AD29-439E-B13A-72FDCC32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9D6F47-3A9B-4FFB-8A55-72A02C91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558CF-FB82-466F-9738-526BF3A6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6A4BBE-5585-42A3-AD01-8BF9935A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BBF348-7F09-4A4D-B4C9-959B0FBE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1730C2-8152-416E-B14C-9033874D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AF56A3-F0DC-4CD7-B88F-8F6835D3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8E84-9347-4E9A-B3EF-2A5F66F8334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7FC5E-865E-4227-BC76-A919E5A8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ED5ECD-02AD-4F5E-BC32-E92FD968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2EFB90-E290-45D4-B54D-A73BFE65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8CC66E-B6D3-496F-95D3-119A5A69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FB56D8-788A-4EBD-9FB3-3D79DBE2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DB25A9-D6E0-484F-87D0-57DDBA07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246FF3-F3CB-4D78-B954-BADA5078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7498E0-8398-4CE1-909D-0A2A31A6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D4EF06-7D0E-4A06-BCCF-F780E182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D7AAA4-C135-4C5E-85E3-477AC7A5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19456-A842-4B92-BE31-146CC0AF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D4459B-3E30-408F-AAE3-2ECCB942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5CC427-619B-46CC-BA47-FAD60DC5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E6C54A-0F7D-4D7D-A3DC-4A8630BA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6A8F4B-E151-4A54-B317-882080A5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511D8-5D04-4F17-83CD-8A8A0A09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3A8FAA-14C7-46E0-B30E-56CD567A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6264BE-6443-489D-AA99-CE144B92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282F43-9F49-48FF-B5E0-FCF1C4BD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D1FAC6-A11A-4989-9AAD-033A689D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86B0F0-D88D-4B96-9001-E01877ED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FFA02-5266-43CE-B929-55C613DA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5CA6AA-BCA6-459D-BD16-38B30EEE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A09CBB-6757-4438-8DBE-750F7A9C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D0E46-21E4-4D97-8F07-5ADA5486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F0D88C-F3F7-43C3-9FA4-ABC75378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14F52F-4B59-4C29-89BA-0AA03292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2612DC-8FFD-48D3-ADD0-D758B570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DB126F-5470-4003-9419-AB182D6A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9F8E3C-9DB8-47B1-8771-6F78F8FA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8012CFF-7146-4D52-A34F-D9B70C8F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CDC355-115F-4D43-A922-D3DF24E4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E780A-81E2-465F-842B-CEB0EFEA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E14937-1873-472B-8BF0-E691C18F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080EF6-A0EE-4BBD-8A9D-2DE5AE68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4413F7-0DA4-4D4D-896A-EBAB77B3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6C2111-3E7E-4B36-AB00-556CA2CF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2C4ABC-4FC0-4984-A17B-114A9C77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13F5CE-CE16-4E32-BC2F-1F28C695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2EBE36-5C96-466B-94A0-C8EF5308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4E32F-76CC-496D-B7E2-84045A2A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F6E5F-1B13-4AA3-B6A4-C1C3D90B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331D9-0A46-4FEE-8F78-FE0D0D32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894DE-28A6-48B1-9289-6D986CB9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B819-95FB-4170-AC8D-7285FA156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96100-ED6A-4670-BC4D-DBACF4ED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0D93F-703A-4A1D-B17F-B1140D3D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C9966-D3E7-4290-B4B3-0BE297C6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C63AA-3D39-4583-B73E-74B8FC5F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08482-68A9-41EE-BC1E-8FD5F7B9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6D31A0-371B-4F22-A647-96807A21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5C5010-BC88-480D-8B28-B8CF6844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47A33B-2852-4188-84D1-28DE4455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A99E67-BBE0-4D29-BBF9-07B076CF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059150-D68F-45EE-BDB9-D5F5FBDB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62E5-B830-4F73-B607-BA387F230A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556CC0-1D7B-4BB4-85F8-7E74629E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4208C6-798B-4572-B151-99959193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34B019-7412-4F4F-9280-A304611F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A5E3AF-7B97-47D4-8BD7-37690765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230D9E-F2A2-4030-A280-CD630F11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03BB00-15DF-4447-975E-B6927059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FA0B31-8364-464A-9E56-B7399864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2233F0-2F90-4E8D-903F-DDEFB1F4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879896-AA2B-4891-B0EF-04C34D85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1E48A-8BD8-470C-BF92-AD776558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5F87-2FE5-4DA6-B27D-C005D5DDE2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F3B1E0-34A5-45E3-A61D-FCE654C7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647E5F-F219-48EC-937B-DA357597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C1BFD7-8DBD-445F-BA68-6077E19A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063C3D-F3A0-46AF-ABE0-1D300202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CBE614-C206-4A3B-A79D-8D14BCAE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3C8A39-076E-483C-A3D7-F622AA91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70AFDE-1E06-4D5A-BB1F-4F6489E5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FD26F1-B48C-434F-8664-BE8D1D1E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273348-76E5-4E56-B6B3-16539CDC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F2EAEB-27B0-4548-B472-22A98E17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E516-3BEE-43A7-9239-28A3CADA425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C03409-D12F-42D1-BE37-2220FD3A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B4EB44-439C-4F79-9D8D-3B4BBDC9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132016-4D6E-4EB6-9D9E-F00A6833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A70F57-EF2B-4CB8-9214-460B072B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2A5DD5-FE24-44C0-BD5E-A3D1B281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4D5A19-31E2-4DED-B680-7159C220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937323-0958-4049-90F5-80965084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5E2F99-2DB8-45EA-8D8E-93B8EB5D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0D07CD-3EF1-43A6-BD99-C3D6C9E8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5BE43D-0A9E-4075-BD62-C089D5B0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B128-B249-410E-BF0A-6A5AE516C61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48CE9C-4B80-4BCC-8ED7-2A7FDC53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3CB482-FAB8-4C3B-91F1-3971458E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B504BD-0F27-4139-81B0-5CE43B71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B48C34-E3C8-49C4-AE65-2040BC6E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EAE9E0-9513-4D4C-AB83-6666B1EE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D226C0-5AF1-4238-9CD7-0D8BB029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E2DCB9-1004-418B-BD5E-79931860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9E71DF-7CE3-4134-BF90-EB981E4D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23CCD2-5A54-4F04-BECF-AC26942A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79A666-A317-4D03-A723-D9093C00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00AB-A768-4B3A-960F-4C381A3F1C9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B85EE2-E013-4D1D-B25B-30E1BE0A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FEE2B6-18CC-49DC-AA9C-8100E087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682D3E-092B-4AE2-97F3-8053F2C9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20D032-46EE-4AC2-B312-E4291573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CA129D-F771-46F7-AEC2-7A47E362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CDEDEF-4F96-4ABC-A0AC-0B8F484C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35780A-C553-4AE2-A733-70159984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354D7B-6BEA-4F36-9BF9-CB40BC94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68770D-F5DF-4882-AF95-356F7DBA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593C89-A333-4E90-AD84-40817371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5D6C-90D1-4265-9DE5-5E69782FFDF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42525D-DADB-447F-9BC9-12C2C10A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652868-09E6-42F9-B2E3-49F2F9F1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FC8E93-9824-49FE-A26B-449D7442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E3BEA9-B591-4DCB-ABFB-6101B382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67A0CB-4AC3-403F-89F5-E4EDBE31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EA4117-CB8D-480C-95F0-3C5E94E1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9A42F4-2939-4F67-AF12-6EE1968F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05328E-112F-4808-A0D0-E053CDA6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3B6D3A-D653-4041-916E-5CE0C0AF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BC2AAA-5DE0-4E7B-BDE4-46662388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E29C-0412-43A3-9CC1-814180E2F7B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6137BA-9A19-49F6-A5B3-DC97975B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9D4AE7-698F-4D5A-9CF6-27CD6341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EBF0C9-A8AD-4213-A12A-EF9F8E85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A4BFCB-0F7E-4B58-BCCE-99CD3C9C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8AAD39-D508-4783-AEA4-65218333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5EE6E4-7820-4034-B215-CCA3D595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7F5A1C-C5EC-452B-9EB4-A8F6F16F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866355-7B9E-4E50-99E6-0CBD262E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66BF9E-19D7-4438-A633-430E4745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6AD7E-41BE-4AFE-8E11-F78DDDA5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7A982F-8ACE-46E8-AB9C-1C9BC793925E}" type="slidenum">
              <a:rPr b="0" lang="ru-RU" sz="18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B2D2FD-85BD-46C7-8ADF-A2F7F5E38D87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018E78-2B81-4356-8A13-B24949248990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6F9034-E120-47B5-B361-D77049CDAE24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C64CB8-6728-4DDE-8BD2-DBE9A863B28D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11AC-10B9-4EDF-88D1-5E4D820F7E64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C5AC84-44A8-4E49-B8C6-A499BC3B3300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1F3CF9-1B99-4820-8D55-4BBBE949DFD3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206459-7EBF-4FCD-BD04-43FC20854495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C32702-9590-4A0F-A06F-5D54A4502342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D708BE-2569-4015-A576-A510809D8965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8F7073-B24E-4FAD-A4B3-6AB3886D5EFC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E40DFE-6F0E-4786-A868-1E6B2BAFF489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-20808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ЭМОЦИИ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5" name="Picture 3" descr=""/>
          <p:cNvPicPr/>
          <p:nvPr/>
        </p:nvPicPr>
        <p:blipFill>
          <a:blip r:embed="rId1"/>
          <a:stretch/>
        </p:blipFill>
        <p:spPr>
          <a:xfrm>
            <a:off x="539640" y="126036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Мечта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4" name="Picture 5" descr="000803_1063_3051_vuvv"/>
          <p:cNvPicPr/>
          <p:nvPr/>
        </p:nvPicPr>
        <p:blipFill>
          <a:blip r:embed="rId1"/>
          <a:stretch/>
        </p:blipFill>
        <p:spPr>
          <a:xfrm>
            <a:off x="3124080" y="1905120"/>
            <a:ext cx="2914920" cy="4422600"/>
          </a:xfrm>
          <a:prstGeom prst="rect">
            <a:avLst/>
          </a:prstGeom>
          <a:ln w="0">
            <a:noFill/>
          </a:ln>
        </p:spPr>
      </p:pic>
      <p:pic>
        <p:nvPicPr>
          <p:cNvPr id="565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4181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Секретнича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7" name="Picture 5" descr="000803_1063_3048_vuvv"/>
          <p:cNvPicPr/>
          <p:nvPr/>
        </p:nvPicPr>
        <p:blipFill>
          <a:blip r:embed="rId1"/>
          <a:stretch/>
        </p:blipFill>
        <p:spPr>
          <a:xfrm>
            <a:off x="2971800" y="1523880"/>
            <a:ext cx="3328920" cy="4907160"/>
          </a:xfrm>
          <a:prstGeom prst="rect">
            <a:avLst/>
          </a:prstGeom>
          <a:ln w="0">
            <a:noFill/>
          </a:ln>
        </p:spPr>
      </p:pic>
      <p:pic>
        <p:nvPicPr>
          <p:cNvPr id="568" name="Запи2457.WAV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004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Замышля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0" name="Picture 5" descr="000803_1063_3049_vuvv"/>
          <p:cNvPicPr/>
          <p:nvPr/>
        </p:nvPicPr>
        <p:blipFill>
          <a:blip r:embed="rId1"/>
          <a:stretch/>
        </p:blipFill>
        <p:spPr>
          <a:xfrm>
            <a:off x="3048120" y="1600200"/>
            <a:ext cx="3146400" cy="4708440"/>
          </a:xfrm>
          <a:prstGeom prst="rect">
            <a:avLst/>
          </a:prstGeom>
          <a:ln w="0">
            <a:noFill/>
          </a:ln>
        </p:spPr>
      </p:pic>
      <p:pic>
        <p:nvPicPr>
          <p:cNvPr id="571" name="Запи2457.WAV" descr=""/>
          <p:cNvPicPr/>
          <p:nvPr/>
        </p:nvPicPr>
        <p:blipFill>
          <a:blip r:embed="rId2"/>
          <a:stretch/>
        </p:blipFill>
        <p:spPr>
          <a:xfrm>
            <a:off x="902664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3822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Радостный, возбужденны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3" name="Picture 5" descr="000803_1063_3047_vuvv"/>
          <p:cNvPicPr/>
          <p:nvPr/>
        </p:nvPicPr>
        <p:blipFill>
          <a:blip r:embed="rId1"/>
          <a:stretch/>
        </p:blipFill>
        <p:spPr>
          <a:xfrm>
            <a:off x="3124080" y="1523880"/>
            <a:ext cx="3019680" cy="5015160"/>
          </a:xfrm>
          <a:prstGeom prst="rect">
            <a:avLst/>
          </a:prstGeom>
          <a:ln w="0">
            <a:noFill/>
          </a:ln>
        </p:spPr>
      </p:pic>
      <p:pic>
        <p:nvPicPr>
          <p:cNvPr id="574" name="Запи2457.WAV" descr=""/>
          <p:cNvPicPr/>
          <p:nvPr/>
        </p:nvPicPr>
        <p:blipFill>
          <a:blip r:embed="rId2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9439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Озадачен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6" name="Picture 5" descr="000803_1063_3050_vuvv"/>
          <p:cNvPicPr/>
          <p:nvPr/>
        </p:nvPicPr>
        <p:blipFill>
          <a:blip r:embed="rId1"/>
          <a:stretch/>
        </p:blipFill>
        <p:spPr>
          <a:xfrm>
            <a:off x="3048120" y="1676520"/>
            <a:ext cx="2925720" cy="4722840"/>
          </a:xfrm>
          <a:prstGeom prst="rect">
            <a:avLst/>
          </a:prstGeom>
          <a:ln w="0">
            <a:noFill/>
          </a:ln>
        </p:spPr>
      </p:pic>
      <p:pic>
        <p:nvPicPr>
          <p:cNvPr id="577" name="Запи2473.WAV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961" fill="hold"/>
                                        <p:tgtEl>
                                          <p:spTgt spid="5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Кривляется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9" name="Picture 5" descr="000803_1063_3052_vuvv"/>
          <p:cNvPicPr/>
          <p:nvPr/>
        </p:nvPicPr>
        <p:blipFill>
          <a:blip r:embed="rId1"/>
          <a:stretch/>
        </p:blipFill>
        <p:spPr>
          <a:xfrm>
            <a:off x="2743200" y="1676520"/>
            <a:ext cx="3787920" cy="4566960"/>
          </a:xfrm>
          <a:prstGeom prst="rect">
            <a:avLst/>
          </a:prstGeom>
          <a:ln w="0">
            <a:noFill/>
          </a:ln>
        </p:spPr>
      </p:pic>
      <p:pic>
        <p:nvPicPr>
          <p:cNvPr id="580" name="Запи2473.WAV" descr=""/>
          <p:cNvPicPr/>
          <p:nvPr/>
        </p:nvPicPr>
        <p:blipFill>
          <a:blip r:embed="rId2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3542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1" descr=""/>
          <p:cNvPicPr/>
          <p:nvPr/>
        </p:nvPicPr>
        <p:blipFill>
          <a:blip r:embed="rId1"/>
          <a:stretch/>
        </p:blipFill>
        <p:spPr>
          <a:xfrm>
            <a:off x="155520" y="136440"/>
            <a:ext cx="884556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79280" y="544320"/>
            <a:ext cx="8229600" cy="6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.Что такое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.Какие бывают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.Как можно выразить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4.Перечисли положительные эмоци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5.Перечисли отрицательные эмоци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6.Почему важно научиться управлять своими эмоциям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В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омпьютерный тест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С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.Определи, какие чувства испытывают ребята на рисунке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.Закончи предложение(начало см. на доске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.Напиши 2-3 совета, которые помогут твоему другу избавиться от плохого настроения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99"/>
                </a:solidFill>
                <a:latin typeface="Arial Black"/>
              </a:rPr>
              <a:t>Эмоции человека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8" name="Picture 4" descr="000803_1065_1904_vnvv"/>
          <p:cNvPicPr/>
          <p:nvPr/>
        </p:nvPicPr>
        <p:blipFill>
          <a:blip r:embed="rId1"/>
          <a:stretch/>
        </p:blipFill>
        <p:spPr>
          <a:xfrm>
            <a:off x="304920" y="3962520"/>
            <a:ext cx="1633320" cy="25732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000803_1065_0322_vuvv"/>
          <p:cNvPicPr/>
          <p:nvPr/>
        </p:nvPicPr>
        <p:blipFill>
          <a:blip r:embed="rId2"/>
          <a:stretch/>
        </p:blipFill>
        <p:spPr>
          <a:xfrm>
            <a:off x="7010280" y="228600"/>
            <a:ext cx="2133720" cy="23652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000803_1065_1829_vnvv"/>
          <p:cNvPicPr/>
          <p:nvPr/>
        </p:nvPicPr>
        <p:blipFill>
          <a:blip r:embed="rId3"/>
          <a:stretch/>
        </p:blipFill>
        <p:spPr>
          <a:xfrm>
            <a:off x="6629400" y="3886200"/>
            <a:ext cx="2044800" cy="27525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000803_1065_4090_vnvv"/>
          <p:cNvPicPr/>
          <p:nvPr/>
        </p:nvPicPr>
        <p:blipFill>
          <a:blip r:embed="rId4"/>
          <a:stretch/>
        </p:blipFill>
        <p:spPr>
          <a:xfrm>
            <a:off x="152280" y="0"/>
            <a:ext cx="1662120" cy="2705040"/>
          </a:xfrm>
          <a:prstGeom prst="rect">
            <a:avLst/>
          </a:prstGeom>
          <a:ln w="0">
            <a:noFill/>
          </a:ln>
        </p:spPr>
      </p:pic>
      <p:pic>
        <p:nvPicPr>
          <p:cNvPr id="542" name="Запи2442.WAV" descr=""/>
          <p:cNvPicPr/>
          <p:nvPr/>
        </p:nvPicPr>
        <p:blipFill>
          <a:blip r:embed="rId5"/>
          <a:stretch/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4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У людей бывает разное настроение, от которого зависит выражение лица. Глядя на лицо, можно сказать, что чувствует человек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4" name="Запи2442.WAV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" descr="000803_1064_4238_vuvv"/>
          <p:cNvPicPr/>
          <p:nvPr/>
        </p:nvPicPr>
        <p:blipFill>
          <a:blip r:embed="rId2"/>
          <a:stretch/>
        </p:blipFill>
        <p:spPr>
          <a:xfrm>
            <a:off x="4495680" y="3733920"/>
            <a:ext cx="4419720" cy="2913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000803_1064_6011_vnvv"/>
          <p:cNvPicPr/>
          <p:nvPr/>
        </p:nvPicPr>
        <p:blipFill>
          <a:blip r:embed="rId3"/>
          <a:stretch/>
        </p:blipFill>
        <p:spPr>
          <a:xfrm>
            <a:off x="228600" y="1447920"/>
            <a:ext cx="3921120" cy="41338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000803_1054_6855_vuvv"/>
          <p:cNvPicPr/>
          <p:nvPr/>
        </p:nvPicPr>
        <p:blipFill>
          <a:blip r:embed="rId4"/>
          <a:stretch/>
        </p:blipFill>
        <p:spPr>
          <a:xfrm>
            <a:off x="4572000" y="1600200"/>
            <a:ext cx="2217600" cy="22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105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Добрый</a:t>
            </a: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9" name="Picture 5" descr="000803_1063_3043_vuvv"/>
          <p:cNvPicPr/>
          <p:nvPr/>
        </p:nvPicPr>
        <p:blipFill>
          <a:blip r:embed="rId1"/>
          <a:stretch/>
        </p:blipFill>
        <p:spPr>
          <a:xfrm>
            <a:off x="3048120" y="1828800"/>
            <a:ext cx="3287520" cy="4524480"/>
          </a:xfrm>
          <a:prstGeom prst="rect">
            <a:avLst/>
          </a:prstGeom>
          <a:ln w="0">
            <a:noFill/>
          </a:ln>
        </p:spPr>
      </p:pic>
      <p:pic>
        <p:nvPicPr>
          <p:cNvPr id="550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261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Недовольны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2" name="Picture 5" descr="000803_1063_3042_vuvv"/>
          <p:cNvPicPr/>
          <p:nvPr/>
        </p:nvPicPr>
        <p:blipFill>
          <a:blip r:embed="rId1"/>
          <a:stretch/>
        </p:blipFill>
        <p:spPr>
          <a:xfrm>
            <a:off x="2895480" y="1295280"/>
            <a:ext cx="3409920" cy="5149800"/>
          </a:xfrm>
          <a:prstGeom prst="rect">
            <a:avLst/>
          </a:prstGeom>
          <a:ln w="0">
            <a:noFill/>
          </a:ln>
        </p:spPr>
      </p:pic>
      <p:pic>
        <p:nvPicPr>
          <p:cNvPr id="553" name="Запи2457.WAV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293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Испуган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5" name="Picture 5" descr="000803_1063_3045_vuvv"/>
          <p:cNvPicPr/>
          <p:nvPr/>
        </p:nvPicPr>
        <p:blipFill>
          <a:blip r:embed="rId1"/>
          <a:stretch/>
        </p:blipFill>
        <p:spPr>
          <a:xfrm>
            <a:off x="2819520" y="1676520"/>
            <a:ext cx="3798720" cy="4343400"/>
          </a:xfrm>
          <a:prstGeom prst="rect">
            <a:avLst/>
          </a:prstGeom>
          <a:ln w="0">
            <a:noFill/>
          </a:ln>
        </p:spPr>
      </p:pic>
      <p:pic>
        <p:nvPicPr>
          <p:cNvPr id="556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3742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Веселый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8" name="Picture 5" descr="000803_1063_3044_vuvv"/>
          <p:cNvPicPr/>
          <p:nvPr/>
        </p:nvPicPr>
        <p:blipFill>
          <a:blip r:embed="rId1"/>
          <a:stretch/>
        </p:blipFill>
        <p:spPr>
          <a:xfrm>
            <a:off x="2895480" y="1752480"/>
            <a:ext cx="3459240" cy="4560840"/>
          </a:xfrm>
          <a:prstGeom prst="rect">
            <a:avLst/>
          </a:prstGeom>
          <a:ln w="0">
            <a:noFill/>
          </a:ln>
        </p:spPr>
      </p:pic>
      <p:pic>
        <p:nvPicPr>
          <p:cNvPr id="559" name="Запи2457.WAV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416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Злой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1" name="Picture 5" descr="000803_1063_3046_vuvv"/>
          <p:cNvPicPr/>
          <p:nvPr/>
        </p:nvPicPr>
        <p:blipFill>
          <a:blip r:embed="rId1"/>
          <a:stretch/>
        </p:blipFill>
        <p:spPr>
          <a:xfrm>
            <a:off x="3048120" y="1600200"/>
            <a:ext cx="2962080" cy="5014800"/>
          </a:xfrm>
          <a:prstGeom prst="rect">
            <a:avLst/>
          </a:prstGeom>
          <a:ln w="0">
            <a:noFill/>
          </a:ln>
        </p:spPr>
      </p:pic>
      <p:pic>
        <p:nvPicPr>
          <p:cNvPr id="562" name="Запи2457.WAV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253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школа</cp:lastModifiedBy>
  <dcterms:modified xsi:type="dcterms:W3CDTF">2012-03-17T03:24:2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